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513A-D9BB-44FB-B1A3-ADD504EF5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9C2C-F1D9-44C6-A35F-F7E4F555B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288B-A5E4-437A-AA94-6D735EE1F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48B-9F7A-4719-A36A-2A7AC0A7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3771-E992-4EAD-84BA-E1B84193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FB2-F4BE-452A-ACB7-5264A6AA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8595-3228-4D7E-9E00-FB6EEF41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B7E3-B6BA-4DED-BE58-C0FF5210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460F-CFEA-4BD0-BD67-561AEDFF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4E37-5DA2-4983-B292-575247D8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7257-4812-4503-AF95-E730CFA8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9FF-896D-4FE5-A0DB-76500759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DFC4-DCBF-4B52-9182-5C901F1C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C921-16CD-4FD3-896E-40F8A9C1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CF13-21F2-488A-A459-3620DDB0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97F2-4417-4B69-9670-45D52C247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36396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Switches - Industrial Ethernet 9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PWR-RGD-AC-DC-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4287960" y="3562200"/>
            <a:ext cx="5680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3738600" y="888840"/>
            <a:ext cx="166680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9310-26S2C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3911760" y="3556080"/>
            <a:ext cx="132048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9320-16P8U4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9320-22S2C4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9320-24P4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9320-24P4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9320-24T4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9320-26S2C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3911760" y="3556080"/>
            <a:ext cx="132048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Gary Klapel</cp:lastModifiedBy>
  <dcterms:modified xsi:type="dcterms:W3CDTF">2023-06-13T18:24:44Z</dcterms:modified>
  <cp:revision>5</cp:revision>
  <dc:subject/>
  <dc:title>Slide 1</dc:title>
</cp:coreProperties>
</file>